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F7467-B84E-4000-8BAA-E21F3277D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830C-7DA1-4B1D-8134-928F9553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EBAD3-9AAA-4607-91A5-A7B857F5C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FF749-7C27-406F-8CCB-E64B0D8ED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967B1-13AC-42AB-B575-9E37305F6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A0E44-69F8-4F93-B87C-9EF63007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81176-F49B-4FF1-BF77-F44589BE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E8F4D-F1F7-4088-BFF6-BD8D1311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FA25-7796-4520-B2C1-5EB290F2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04A9-7E3D-4A17-ABE0-D26AA17A8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A20D-CB83-4A11-94BA-49C9DE7C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D486-4F8F-48FC-A619-62E8730AA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1C7F-98B1-4177-969C-D055DA236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74000"/>
          </a:bodyPr>
          <a:p>
            <a:pPr marL="253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Repeated feedback among essays - what not to do</a:t>
            </a:r>
            <a:endParaRPr b="0" lang="en-US" sz="28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strong topic sentence that orients discussion around support for thesis, NOT plot</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Using exclusively full sentence quotations, often with repetitive language announcing the use of a quote, and comma to introduce long quote:</a:t>
            </a:r>
            <a:endParaRPr b="0" lang="en-US" sz="2400" spc="-1" strike="noStrike">
              <a:solidFill>
                <a:srgbClr val="000000"/>
              </a:solidFill>
              <a:latin typeface="Arial"/>
            </a:endParaRPr>
          </a:p>
          <a:p>
            <a:pPr marL="25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By looking at this quote, one can see…” or </a:t>
            </a:r>
            <a:endParaRPr b="0" lang="en-US" sz="2400" spc="-1" strike="noStrike">
              <a:solidFill>
                <a:srgbClr val="000000"/>
              </a:solidFill>
              <a:latin typeface="Arial"/>
            </a:endParaRPr>
          </a:p>
          <a:p>
            <a:pPr marL="25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The following quote shows…”</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luding quote first and </a:t>
            </a:r>
            <a:r>
              <a:rPr b="0" lang="en-US" sz="2400" spc="-1" strike="noStrike" u="sng">
                <a:solidFill>
                  <a:srgbClr val="000000"/>
                </a:solidFill>
                <a:uFillTx/>
                <a:latin typeface="Arno Pro"/>
              </a:rPr>
              <a:t>then</a:t>
            </a:r>
            <a:r>
              <a:rPr b="0" lang="en-US" sz="2400" spc="-1" strike="noStrike">
                <a:solidFill>
                  <a:srgbClr val="000000"/>
                </a:solidFill>
                <a:latin typeface="Arno Pro"/>
              </a:rPr>
              <a:t> explaining the context of the quote</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orrect use of parenthetical citation format</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mini-conclusion at end of paragraph that wraps up all the ideas discussed with an eye to signific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52280"/>
            <a:ext cx="876312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irst-person narrator of Bill Capossere’s story “A Wind from the North” emphasizes the important distance between his own life and that of his unknowable unc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opic sentence establishes name of text and author, responds directly to the prompt and sets up a focus for the rest of the id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Bill Capossere’s story “A Wind from the North” is about the death of the narrator’s uncle during a snow st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152280"/>
            <a:ext cx="8763120" cy="1007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a:t>
            </a:r>
            <a:r>
              <a:rPr b="0" sz="1600" spc="-1" strike="noStrike">
                <a:solidFill>
                  <a:srgbClr val="000000"/>
                </a:solidFill>
                <a:latin typeface="Arno Pro"/>
              </a:rPr>
              <a:t>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Carefully use correct parenthetical citation format: end the quote, end quote mark, parenthetical citation, end parenthetical citation, peri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narrative initially establishes separation between the cold linked to the unnamed uncle and the heat linked to the narrator in the first sent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52280"/>
            <a:ext cx="8763120" cy="982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14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lack of indent in the line that comes after, and the follow up on the significance of the quote at the e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only pieces of quotes incorporated into your own original sentences to make the ideas more intrinsically your ow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brackets [] to indicate words you’ve added to quotes or ways you’ve had to shift the langauge of the quote to fit in your grammatical 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If you continue to refer to only one source, once you’re cited the author in the first parenthetical citation, you can provide page citations alone for subsequent 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52280"/>
            <a:ext cx="8763120" cy="93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a:t>
            </a:r>
            <a:r>
              <a:rPr b="0" sz="1600" spc="-1" strike="noStrike">
                <a:solidFill>
                  <a:srgbClr val="000000"/>
                </a:solidFill>
                <a:latin typeface="Arno Pro"/>
              </a:rPr>
              <a:t>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final sentence that ties together the points made in direct acknowledgment of the stated question and my focus for the paragraph as established in the topic sent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52280"/>
            <a:ext cx="8763120" cy="1007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Capossere, Bill.  “A Wind from the North.”  </a:t>
            </a:r>
            <a:r>
              <a:rPr b="0" i="1" lang="en-US" sz="1600" spc="-1" strike="noStrike">
                <a:solidFill>
                  <a:srgbClr val="000000"/>
                </a:solidFill>
                <a:latin typeface="Arno Pro"/>
              </a:rPr>
              <a:t>Imaginative Writing The Elements of Craft (Penguin Academics Series).</a:t>
            </a:r>
            <a:r>
              <a:rPr b="0" lang="en-US"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	</a:t>
            </a:r>
            <a:r>
              <a:rPr b="0" lang="en-US" sz="1600" spc="-1" strike="noStrike">
                <a:solidFill>
                  <a:srgbClr val="000000"/>
                </a:solidFill>
                <a:latin typeface="Arno Pro"/>
              </a:rPr>
              <a:t>Ed. Janet Burroway.  New York: Longman, 2007. 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52280"/>
            <a:ext cx="8763120" cy="982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Capossere, Bill.  “A Wind from the North.”  </a:t>
            </a:r>
            <a:r>
              <a:rPr b="0" i="1" lang="en-US" sz="1600" spc="-1" strike="noStrike">
                <a:solidFill>
                  <a:srgbClr val="000000"/>
                </a:solidFill>
                <a:latin typeface="Arno Pro"/>
              </a:rPr>
              <a:t>Imaginative Writing The Elements of Craft (Penguin Academics Series).</a:t>
            </a:r>
            <a:r>
              <a:rPr b="0" lang="en-US"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	</a:t>
            </a:r>
            <a:r>
              <a:rPr b="0" lang="en-US" sz="1600" spc="-1" strike="noStrike">
                <a:solidFill>
                  <a:srgbClr val="000000"/>
                </a:solidFill>
                <a:latin typeface="Arno Pro"/>
              </a:rPr>
              <a:t>Ed. Janet Burroway.  New York: Longman, 2007. 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uncle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2-08T16:02:23Z</dcterms:modified>
  <cp:revision>10</cp:revision>
  <dc:subject/>
  <dc:title>PowerPoint Presentation</dc:title>
</cp:coreProperties>
</file>